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B19-33CD-4A8A-BBFF-30EC9E7B0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9F23-E617-4F34-9594-73091019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D72-C00E-4BE4-AC43-C03021DD8BD3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3B9-2BD2-41A2-AEE9-07AE0A3E786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C0E-3BDE-4780-9D7A-938DEB4717C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14E-8D30-4700-83F4-BEDB5C1C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31F-36FD-4755-9736-7FA9668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053-0B58-431C-834B-C3404144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3B0-3D12-4334-B789-FBCE8D3A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4C3-7694-4020-9C53-F2BEBE3C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3B25-390B-411D-9444-7D31417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C677-2662-4AE5-ABBA-60533692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409-1341-485A-B0E9-0A24F97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D6C-0BAB-4154-9D5A-A73297B0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266-F5A2-43AA-8548-7F6CA95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9383-401E-45A3-8448-DA4C014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9BE-9325-4812-BBEA-025942C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355F-AEE1-43B7-B892-803EFDA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93D-C654-4E18-B04B-5379D4F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4B5B-3597-4B95-BD3B-26105E91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492-8223-4679-A7A5-2B159476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1FC7-6E2D-40EC-9476-FAF91395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E7A-7F47-44F0-B118-45C2D2E1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73D-AFC8-4C99-90FB-6AC1552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D39-9E5F-4751-AD8B-A36146F0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45-1607-4768-90D8-8B73221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81C-A52B-4BD2-9A13-1E03603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348-DC22-4F3B-9410-1F7BEEA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CA1-9C07-4355-B1E2-E6C06AC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3CBE-42BB-45E4-8CF3-64703D9BB3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5C94-E833-49FD-BE33-9C014E5E64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llege.hmco.com/history/west/mosaic/chapter12/image16_large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rench Revolution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The Ball starts to Rol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066680" y="152280"/>
            <a:ext cx="7162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cc99"/>
                </a:solidFill>
                <a:latin typeface="BlackChancery"/>
              </a:rPr>
              <a:t>Revolutionary Playing Cards</a:t>
            </a:r>
            <a:endParaRPr b="0" lang="en-US" sz="4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Picture 3" descr="img0012"/>
          <p:cNvPicPr/>
          <p:nvPr/>
        </p:nvPicPr>
        <p:blipFill>
          <a:blip r:embed="rId1">
            <a:lum contrast="12000"/>
          </a:blip>
          <a:srcRect l="5928" t="1323" r="24983" b="6583"/>
          <a:stretch/>
        </p:blipFill>
        <p:spPr>
          <a:xfrm>
            <a:off x="3124080" y="990720"/>
            <a:ext cx="2781360" cy="55623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a position on the following ide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vernment must prioritize debt repayment before any other expenditur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o answer, conside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nature of deb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y debt is dangerou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y there is a deb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ber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Has numerous shades, but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All believ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Self-determination of a people, and a pers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Equality and protection of rights and freedo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In progress and in change…they welcome i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e Meeting of the Estates Gene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Assembly of Notables requested i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Not since 161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Cahier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By block or by hea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Louis XVI capitu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e National 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Absolute to Constitutional Monarch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Lock out from meeting roo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The Tennis Court Oath (20 June 1789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6" descr="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362320"/>
            <a:ext cx="48006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all of the Bastil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14 July 17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Popular move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Parisian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Opposed to foreign troops (mercenaries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Again Louis XVI capitula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Movement gains momentum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굴림"/>
              </a:rPr>
              <a:t>Lafayette and the Tricol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Picture 8" descr="fall_of_the_bastille"/>
          <p:cNvPicPr/>
          <p:nvPr/>
        </p:nvPicPr>
        <p:blipFill>
          <a:blip r:embed="rId1"/>
          <a:stretch/>
        </p:blipFill>
        <p:spPr>
          <a:xfrm>
            <a:off x="0" y="2590920"/>
            <a:ext cx="48769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3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Picture 14" descr="lafayette_yorktown"/>
          <p:cNvPicPr/>
          <p:nvPr/>
        </p:nvPicPr>
        <p:blipFill>
          <a:blip r:embed="rId1"/>
          <a:stretch/>
        </p:blipFill>
        <p:spPr>
          <a:xfrm>
            <a:off x="685800" y="1600200"/>
            <a:ext cx="3719520" cy="4876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French Tri-color"/>
          <p:cNvPicPr/>
          <p:nvPr/>
        </p:nvPicPr>
        <p:blipFill>
          <a:blip r:embed="rId2"/>
          <a:stretch/>
        </p:blipFill>
        <p:spPr>
          <a:xfrm>
            <a:off x="4800600" y="266688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755640" y="266760"/>
            <a:ext cx="77025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cc99"/>
                </a:solidFill>
                <a:latin typeface="BlackChancery"/>
              </a:rPr>
              <a:t>Revolutionary Symbols</a:t>
            </a:r>
            <a:endParaRPr b="0" lang="en-US" sz="41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3" name="Picture 3" descr="cockad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66680" y="1295280"/>
            <a:ext cx="175284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 Box 4"/>
          <p:cNvSpPr/>
          <p:nvPr/>
        </p:nvSpPr>
        <p:spPr>
          <a:xfrm>
            <a:off x="1143000" y="2971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ck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5" descr="Fr Revol clock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371600" y="3673440"/>
            <a:ext cx="2057400" cy="20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Text Box 6"/>
          <p:cNvSpPr/>
          <p:nvPr/>
        </p:nvSpPr>
        <p:spPr>
          <a:xfrm>
            <a:off x="1143000" y="573084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volutionary Clo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Picture 7" descr="La Republique"/>
          <p:cNvPicPr/>
          <p:nvPr/>
        </p:nvPicPr>
        <p:blipFill>
          <a:blip r:embed="rId3"/>
          <a:srcRect l="2566" t="414" r="2566" b="7028"/>
          <a:stretch/>
        </p:blipFill>
        <p:spPr>
          <a:xfrm>
            <a:off x="3809880" y="1523880"/>
            <a:ext cx="20145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 Box 8"/>
          <p:cNvSpPr/>
          <p:nvPr/>
        </p:nvSpPr>
        <p:spPr>
          <a:xfrm>
            <a:off x="38098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La Republ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9" descr="Liberte-egalite-fraternite-tympanum-church-saint-pancrace-aups-var"/>
          <p:cNvPicPr/>
          <p:nvPr/>
        </p:nvPicPr>
        <p:blipFill>
          <a:blip r:embed="rId4"/>
          <a:stretch/>
        </p:blipFill>
        <p:spPr>
          <a:xfrm>
            <a:off x="5715000" y="5029200"/>
            <a:ext cx="236232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Picture 10" descr="Liberte"/>
          <p:cNvPicPr/>
          <p:nvPr/>
        </p:nvPicPr>
        <p:blipFill>
          <a:blip r:embed="rId5"/>
          <a:stretch/>
        </p:blipFill>
        <p:spPr>
          <a:xfrm>
            <a:off x="6172200" y="1066680"/>
            <a:ext cx="2166840" cy="29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Text Box 11"/>
          <p:cNvSpPr/>
          <p:nvPr/>
        </p:nvSpPr>
        <p:spPr>
          <a:xfrm>
            <a:off x="640080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Liberté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66680" y="380880"/>
            <a:ext cx="707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99"/>
                </a:solidFill>
                <a:latin typeface="BlackChancery"/>
              </a:rPr>
              <a:t>The Tricolor is the Fashion!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Picture 3" descr="post_fr24"/>
          <p:cNvPicPr/>
          <p:nvPr/>
        </p:nvPicPr>
        <p:blipFill>
          <a:blip r:embed="rId1"/>
          <a:stretch/>
        </p:blipFill>
        <p:spPr>
          <a:xfrm>
            <a:off x="2919240" y="1371600"/>
            <a:ext cx="325296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3:54:40Z</dcterms:created>
  <dc:creator>Generic</dc:creator>
  <dc:description/>
  <dc:language>en-US</dc:language>
  <cp:lastModifiedBy>MacAdmin Kis</cp:lastModifiedBy>
  <dcterms:modified xsi:type="dcterms:W3CDTF">2008-10-08T04:10:37Z</dcterms:modified>
  <cp:revision>10</cp:revision>
  <dc:subject/>
  <dc:title>French Revolution Part II</dc:title>
</cp:coreProperties>
</file>